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DB8-EF5C-448E-A231-D1159FA5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0A63-033E-4D32-8DF0-3D62BF43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C60-2CA3-4E11-B772-67976D14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1AF-7746-42EA-8A83-39AC1AA3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3DD1-B2C4-4690-A181-65892CD7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2971-0C27-471E-A96F-AB537FF8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3013-1CE0-4F79-8DEC-AC5BF8F0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18B2-C1C9-4632-AFA6-D609D0F9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4641-973C-4830-B66B-107AA685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09FF-EA2D-47D4-B5E0-4A0BC077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93D3-003C-48C2-8850-FD2546C5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A76-44C2-4EF4-BF39-C1F8BA47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8F03-7F01-4EB4-A5DD-406CB295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BA9B-5991-411F-B841-36C295F5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C2B1-211A-4321-B8CA-6A3695C1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09A0-B48C-4E83-99AC-2173C953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304B-6C8A-4030-B974-A430C788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E989-5000-4D30-B9D4-67D27632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893-F04C-4C9D-B19E-B4246B5B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170B-E716-456F-9894-716044B4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55F3-913F-46FF-A115-28E7A274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D033-DFF2-4F49-9F1B-4916EC81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EF4-7D6A-4026-BDE2-5743421B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543-494D-4199-B4F4-11E15B81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7181-07AB-484D-B2E5-30A088957782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7EED-ADD7-4747-8572-436FDA641CF9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Windows Movie Maker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/6-12/Session 3 of 3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shop Titl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tudents will share the following aspects of their project: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212164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Explain how the choices you have made regarding the video effects and audio have enhanced your movie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212164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Why did you make these particular choices?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e have seen how the choices we make as editors can effect the story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e have observed how title sequences, video effects, and transitions can add to or subtract from the overall impact of a movie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import audio and add audio effects in </a:t>
            </a:r>
            <a:r>
              <a:rPr b="0" lang="en-US" sz="3200" spc="-1" strike="noStrike">
                <a:solidFill>
                  <a:srgbClr val="212164"/>
                </a:solidFill>
                <a:latin typeface="Lucida Grande"/>
              </a:rPr>
              <a:t>Windows Movie Maker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share our movies with other peopl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do we add video effects to our movie clip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udio, whether it is from a CD, or a computer recording has the ability to enhance dramatic moments in a movi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ce a movie is created there are many different methods of distribution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t can be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isplayed on a websit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ent via emai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viewed on a computer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burned on a DV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Video effects can be used to alter a clip. Effects can be used to alter the speed of the clip, add special effects to the clip, or turn a clip to black and whit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hat are possible sources of digital audio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microphone (built into the computer or external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line downloa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C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’s skill will focus on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importing audio into </a:t>
            </a:r>
            <a:r>
              <a:rPr b="0" lang="en-US" sz="2800" spc="-1" strike="noStrike">
                <a:solidFill>
                  <a:srgbClr val="212164"/>
                </a:solidFill>
                <a:latin typeface="Lucida Grande"/>
              </a:rPr>
              <a:t>Windows Movie Make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video effect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aving the movie in a format everyone can view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Lucida Grande"/>
              </a:rPr>
              <a:t>(see the tutorial for specific instruction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    </a:t>
            </a: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Take the next 30 minutes to import still images. Add titles, video effects (if necessary) and transitions to your movies. After 30 minutes we will come back together and shar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2164"/>
                </a:solidFill>
                <a:latin typeface="Lucida Grande"/>
              </a:rPr>
              <a:t>Participant Activity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Import digital pictures into Movie Maker and include two pictures in your movi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Add video effects, titles, and transitions to your movi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599"/>
              </a:spcAft>
              <a:buClr>
                <a:srgbClr val="212164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ave your Movie Maker project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599"/>
              </a:spcAft>
              <a:buClr>
                <a:srgbClr val="212164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hare (export) your Movie Maker project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2:24:10Z</dcterms:created>
  <dc:creator>NYCD DOE</dc:creator>
  <dc:description/>
  <dc:language>en-US</dc:language>
  <cp:lastModifiedBy>NYCD DOE</cp:lastModifiedBy>
  <dcterms:modified xsi:type="dcterms:W3CDTF">2007-03-11T18:39:28Z</dcterms:modified>
  <cp:revision>20</cp:revision>
  <dc:subject/>
  <dc:title>Workshop Title</dc:title>
</cp:coreProperties>
</file>